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0.pct" ContentType="image/x-pict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85AD-2B28-47C2-B078-8158B0285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rcise = acidic in mus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arbonic ac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uses buffers to counter act th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0EA0-05A0-45D3-829C-008C0B5E6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37F7-FFC6-4704-A0D1-83B8F229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259E-1B77-4E64-8C86-AF1D3E8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741B-36EE-4A6C-9F9F-956835B26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A9D4-B1F3-40BE-868E-C703C8B4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1702-1D42-4343-BCA9-5A2CD19A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1171-A374-4DE1-9F28-36F13815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EF14-592C-4BF6-92CF-BE6355BC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7A5D-06AF-47EC-9439-47AEF72B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90BD-E101-4AAC-8D69-77D29D09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7881-A633-4778-9694-95EF2586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4BF5-F905-4FA8-8514-FAF5FDFB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4A63-8504-40C7-A06B-8C23AF399E2B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ers/kfoglia/Kim&apos;s%20NEW%20WORK/Division%20Ave%20-%20Levittown/AP%20Bio/MOVIES/Ch3/03_02WaterStructure_A.swf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Users/kfoglia/Kim&apos;s%20NEW%20WORK/Division%20Ave%20-%20Levittown/AP%20Bio/MOVIES/Ch3/03_03WaterTransport_A.swf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3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— The Elixir of Lif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702" t="0" r="9000" b="0"/>
          <a:stretch/>
        </p:blipFill>
        <p:spPr>
          <a:xfrm>
            <a:off x="6477120" y="609480"/>
            <a:ext cx="23968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phobic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stances do not have affinity fo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ola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n-pola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n-i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4410000" cy="2423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0" t="10763" r="0" b="0"/>
          <a:stretch/>
        </p:blipFill>
        <p:spPr>
          <a:xfrm>
            <a:off x="6019920" y="3300480"/>
            <a:ext cx="2631960" cy="335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7480" y="632376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at (triglycerol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special case of i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(all?) substances are mor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nse when they are soli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ut not water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ce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float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 bonds form a crystal with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ose structur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69216" b="11934"/>
          <a:stretch/>
        </p:blipFill>
        <p:spPr>
          <a:xfrm>
            <a:off x="6553080" y="2743200"/>
            <a:ext cx="2210040" cy="2857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8120" y="4524480"/>
            <a:ext cx="2708280" cy="2257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454640"/>
            <a:ext cx="15861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ce flo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5972"/>
          <a:stretch/>
        </p:blipFill>
        <p:spPr>
          <a:xfrm>
            <a:off x="981000" y="2130480"/>
            <a:ext cx="718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“ice floats”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ceans &amp; lakes don’t freeze soli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ice sank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ually all ponds, lakes &amp; even ocean would freeze soli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uring summer, only upper few inches would thaw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rface ice insulates water below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owing life to survive the wint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asonal turnover of lak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ycling nutri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ecific he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has high specific he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e to H bond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resists changes in tempera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es a lot to heat it u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es a lot to cool it dow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derates temperatures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127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aporative cool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648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rganisms rely on heat of vaporization to remove he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3174840"/>
            <a:ext cx="5257800" cy="3530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884920" y="1612800"/>
            <a:ext cx="30304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 forms 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ydrogen i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splits off from water to leave a hydroxide ion (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H)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0 ----&gt; 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 +  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concentration of 2 ions is equal,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neutral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[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&gt; [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, 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acidic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[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 &gt; [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,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basic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pH scal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how acidic or basic a solution 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 Sca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 pure water only 1 water molecule in every 554 million is dissociated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ry small amount of 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] or [O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] is 10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] = 10</a:t>
            </a:r>
            <a:r>
              <a:rPr b="1" lang="en-US" sz="3200" spc="-1" strike="noStrike" baseline="30000">
                <a:solidFill>
                  <a:srgbClr val="cc0000"/>
                </a:solidFill>
                <a:latin typeface="Arial"/>
              </a:rPr>
              <a:t>-14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 scale is based on this equ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 Sca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267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In neutral solution [H</a:t>
            </a:r>
            <a:r>
              <a:rPr b="1" lang="en-US" sz="28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0f116a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pH = 7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Values for pH </a:t>
            </a:r>
            <a:r>
              <a:rPr b="1" i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decline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as [H</a:t>
            </a:r>
            <a:r>
              <a:rPr b="1" lang="en-US" sz="28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] </a:t>
            </a:r>
            <a:r>
              <a:rPr b="1" i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increase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cids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dding acid increases [H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+]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Base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dding base increases [OH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]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5105520" y="533520"/>
            <a:ext cx="39002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are we studying water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life occurs in 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side &amp; outside the c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3137040"/>
            <a:ext cx="5640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 &amp; Biolo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 of a neutral solution = 7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cidic solutions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 &lt; 7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asic solution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 &gt; 7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ost biological fluids have pH 6 – 8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 values in human stomach can reach 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ach pH unit represents a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10-fold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difference in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&amp; O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ncentrations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change in pH actually indicates a substantial change in [H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] &amp; [OH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is a pola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special properties of water make life on Earth possib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chemical behavior of water governs how organisms fun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chlin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2388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ce Fishing in Barro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9" name="Silver Streak:Users:kfoglia:Kim's NEW WORK:Division Ave - Levittown:Attachments:icefishinginbarrow.mpe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73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is pola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member polar 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&amp; – po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4038480" y="2941560"/>
            <a:ext cx="48769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1428" t="0" r="11428" b="4441"/>
          <a:stretch/>
        </p:blipFill>
        <p:spPr>
          <a:xfrm>
            <a:off x="4363920" y="2157480"/>
            <a:ext cx="4703760" cy="4624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lecules form H bonds with each 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attracted to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eates a sticky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lecul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2520" y="62161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play movie here</a:t>
            </a:r>
            <a:r>
              <a:rPr b="0" lang="en-US" sz="1600" spc="-1" strike="noStrike" u="sng">
                <a:solidFill>
                  <a:srgbClr val="0f116a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70000" y="4363920"/>
            <a:ext cx="233532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he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 bonding between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create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ohes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is “stick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rface tens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rinking straw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 you suck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ugar up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raw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does H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 get to top of tre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pira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62920" cy="429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216120"/>
            <a:ext cx="388620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play movie here</a:t>
            </a:r>
            <a:r>
              <a:rPr b="0" lang="en-US" sz="1600" spc="-1" strike="noStrike" u="sng">
                <a:solidFill>
                  <a:srgbClr val="0f116a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dhe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lecules form H bonds with other substanc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pillary a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isc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climbs up fib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x. paper tow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1371600" y="3613320"/>
            <a:ext cx="3429000" cy="3168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 is the solven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is a good solvent due to its polar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molecules surround + &amp; – 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vents dissolve solutes creating aqueous solu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3508200"/>
            <a:ext cx="335268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philic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stances have affinity fo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ola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n-pola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62720" y="3481560"/>
            <a:ext cx="3352680" cy="3224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1447920" y="3813120"/>
            <a:ext cx="30477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3T10:22:23Z</cp:lastPrinted>
  <dcterms:modified xsi:type="dcterms:W3CDTF">2005-09-13T13:20:05Z</dcterms:modified>
  <cp:revision>199</cp:revision>
  <dc:subject>Introduction to the Internet &amp; Web sites</dc:subject>
  <dc:title>Small Business Success on the Web</dc:title>
</cp:coreProperties>
</file>